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F714-9F42-4679-82E0-273A475D2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1A11-187A-48BC-AB6E-63173356DA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F7AC-D433-4907-9002-4BC0D3FE2B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2623-52F6-4AC7-AD1B-8D6EBB317C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BFCF-C455-4546-802B-2F89EAE76F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AF1C-22BB-427B-A0B6-01E48E25ED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5099-4104-4180-A47D-124E32C9F1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DE14-817D-435F-8DAE-9A580AAE50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7F2B-C8CE-4D89-9BB8-9F100993D7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A96F-3745-445B-AE81-C46F7301FF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60B7-D2E7-47BD-BD5B-CEFA2BE23C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BA33-DE3A-44F1-B126-24C7EC2FE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0FC0-6547-4265-9BB5-09E0F001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9AC6-E6EF-4793-971F-70D694512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2370-D14F-4217-9D46-D84C0D181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0A34-86CC-4E62-8E1D-FCAC28E06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2FBC-D4EC-4763-AB76-FEF11A6F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3F68-3972-4E49-A0C5-63D0438F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F455-B2E2-4726-A984-474AAEC6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4263-D7AE-414F-A10D-194E0A17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1ABA-0D96-4330-BB66-480F5354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C469-4BF6-4ADE-B684-8F36C064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A5F6-5CFE-432A-BB6C-24327666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786E-4535-46EC-851C-84393C13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7803-0894-48DD-9303-6827708B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B863-7E88-46AD-BB3E-3272A585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73F0-302D-44C4-9843-0F723056B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6CE2-76D9-41F5-BAC3-583F6EB04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2D52-014A-4FF5-B9BD-F09D5D48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9A58-17F6-4AB6-BDA3-6BF2D65D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CE3A-9A45-4E7B-A794-68B6749E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A02A-F307-4885-BF89-41D76201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E764-5FE9-4910-8AC9-8316498A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B3DE-5AD0-4BC2-9613-66931FB8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98D2-D283-4734-9351-AE6AABC7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AA6D-00CD-491B-9D97-3D4EE7C20FA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ADEB-04DC-4B83-A8CC-8E0DF94BB77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Comic Sans MS"/>
              </a:rPr>
              <a:t>The Periodic Tabl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Comic Sans MS"/>
              </a:rPr>
              <a:t>T he Groups of the Periodic Tabl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roups 3-12:  Transition Met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und freely and in compounds in n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reat conductors of electric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ixed with paints to achieve bright col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clude radioactive elements 89 through 1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clude Mercury, the only metal that is liquid at room temperat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ve a silvery luster, except Copper and Gol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rge is usually 2 but can vary—usually 2 valence electrons (2 in outer she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Comic Sans MS"/>
              </a:rPr>
              <a:t>T he Groups of the Periodic Tabl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roup 13:  Boron 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etallic (except Boron, which is a solid metallo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carce in nature (except Aluminum, which is the most abundant metallic el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rge is +3:  3 valence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Comic Sans MS"/>
              </a:rPr>
              <a:t>The Groups of the Periodic Tabl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roup 14:  The Carbon 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tains elements that can form unusual bonds (Carbon and Silic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cludes a nonmetal (Carbon), two metalloids (Silicon and Germanium) and two metals (Tin and Lea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latively unrea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rge is +4 or -4:  contains 4 valence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Comic Sans MS"/>
              </a:rPr>
              <a:t>T he Groups of the Periodic Tabl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6854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roup 15: The Nitrogen 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sists of two nonmetals (Nitrogen and Phosphorus), two metalloids (Arsenic and Antimony), and one metal (Bismuth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itrogen is most commonly found as atmospheric 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ange from very abundant elements (Nitrogen and Phosphorus) to relatively rare elements (Arsenic, Antimony, and Bismuth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lids at room temperature, except Nitro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rge is -3:  contains 5 valence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Comic Sans MS"/>
              </a:rPr>
              <a:t>The Groups of the Periodic Tabl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roup 16:  The Oxygen Fami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sists of three nonmetals (Oxygen, Sulfur, and Selenium), one metalloid (Tellurium), and one metal (Poloni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so known as the Chalcog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rge is -2:  6 valence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Comic Sans MS"/>
              </a:rPr>
              <a:t>T he Groups of the Periodic Tabl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roup 17:  The Halog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st reactive nonmetals, with Fluorine being the most reactive of all nonmet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und in the rocks of Earth's crust and dissolved in sea wat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 as a gas at room temperature (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, a liquid (B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, and a solid (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A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rge is -1:  7 valence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Comic Sans MS"/>
              </a:rPr>
              <a:t>T he Groups of the Periodic Tabl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roup 18:  The Noble Gases (The Inert Gas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nreacti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lorless g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n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rge is 0:  2 or 8 valence electrons- have a full outer energy leve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Comic Sans MS"/>
              </a:rPr>
              <a:t>Special Rows on the P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5867280" cy="4214880"/>
          </a:xfrm>
          <a:prstGeom prst="rect">
            <a:avLst/>
          </a:prstGeom>
          <a:ln w="0">
            <a:noFill/>
          </a:ln>
        </p:spPr>
      </p:pic>
      <p:sp>
        <p:nvSpPr>
          <p:cNvPr id="163" name="Line 5"/>
          <p:cNvSpPr/>
          <p:nvPr/>
        </p:nvSpPr>
        <p:spPr>
          <a:xfrm flipV="1">
            <a:off x="1905120" y="4876920"/>
            <a:ext cx="1523880" cy="4572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Line 6"/>
          <p:cNvSpPr/>
          <p:nvPr/>
        </p:nvSpPr>
        <p:spPr>
          <a:xfrm flipV="1">
            <a:off x="2514600" y="5409720"/>
            <a:ext cx="914400" cy="7621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228600" y="5181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anthanide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1447920" y="6095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ctinide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anthanides Family</a:t>
            </a: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Very reactive; burns easily in 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5 soft met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nce called the Rare Earth El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latively abundant in Earth's cru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und in Row 6 of the periodic table between Groups 3 and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ccur together in nature, and they are very difficult to separate from each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lvery-white metals that tarnish when exposed to air, forming their oxide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ctinides Family</a:t>
            </a: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l are radioactiv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5 very dense metals- tarnish in ai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ctinides combine directly with most nonmet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6108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Comic Sans MS"/>
              </a:rPr>
              <a:t>The Father of the Periodic Table—Dimitri Mendeleev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endeleev was the first scientist to notice the relationship between the el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rranged his periodic table by atomic 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id properties of unknown elements could be predicted by the properties of elements around the missing 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seley later discovered that the periodic nature of the elements was associated with atomic number, not atomic 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alence Electr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utermost (last shell) electrons in an 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lectrons available for interactions with valence electrons of other atoms in chemical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etalloid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ix elements: Boron, Silicon, Germanium, Arsenic, Antimony and Tellur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lements found along the stair-step line that distinguishes metals from non-met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emical elements with properties that are in-between or a mixture of those of metals and nonmet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ve a metallic appearance but they are brittle and only fair conductors of electr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Comic Sans MS"/>
              </a:rPr>
              <a:t>The Periodic Table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5715000" cy="4105440"/>
          </a:xfrm>
          <a:prstGeom prst="rect">
            <a:avLst/>
          </a:prstGeom>
          <a:ln w="0">
            <a:noFill/>
          </a:ln>
        </p:spPr>
      </p:pic>
      <p:sp>
        <p:nvSpPr>
          <p:cNvPr id="114" name="Line 5"/>
          <p:cNvSpPr/>
          <p:nvPr/>
        </p:nvSpPr>
        <p:spPr>
          <a:xfrm flipV="1">
            <a:off x="2362320" y="2057040"/>
            <a:ext cx="914400" cy="106668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04920" y="3124080"/>
            <a:ext cx="23619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olumn = Group or Family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18 columns on the Periodic Tabl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Line 7"/>
          <p:cNvSpPr/>
          <p:nvPr/>
        </p:nvSpPr>
        <p:spPr>
          <a:xfrm>
            <a:off x="2286000" y="4724280"/>
            <a:ext cx="1828800" cy="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04920" y="4724280"/>
            <a:ext cx="2133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ow = Period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7 rows on the Periodic Tabl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Comic Sans MS"/>
              </a:rPr>
              <a:t>What does the information in the box tell me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742840" y="1828440"/>
            <a:ext cx="3809880" cy="453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ydro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1.00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362320" y="2438280"/>
            <a:ext cx="304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Line 6"/>
          <p:cNvSpPr/>
          <p:nvPr/>
        </p:nvSpPr>
        <p:spPr>
          <a:xfrm flipV="1">
            <a:off x="2057400" y="2209680"/>
            <a:ext cx="20574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762120" y="274320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228600" y="23623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tomic Number = # of proton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Line 9"/>
          <p:cNvSpPr/>
          <p:nvPr/>
        </p:nvSpPr>
        <p:spPr>
          <a:xfrm>
            <a:off x="2057400" y="4648320"/>
            <a:ext cx="167652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304920" y="411480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tomic Mass = # of protons plus neutron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Line 11"/>
          <p:cNvSpPr/>
          <p:nvPr/>
        </p:nvSpPr>
        <p:spPr>
          <a:xfrm flipH="1">
            <a:off x="5714640" y="2971800"/>
            <a:ext cx="16765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7391520" y="26668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lemental Symbo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Metals, Nonmetals, and 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emi-metal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2209680" y="1925640"/>
            <a:ext cx="6324840" cy="4543560"/>
          </a:xfrm>
          <a:prstGeom prst="rect">
            <a:avLst/>
          </a:prstGeom>
          <a:ln w="0">
            <a:noFill/>
          </a:ln>
        </p:spPr>
      </p:pic>
      <p:sp>
        <p:nvSpPr>
          <p:cNvPr id="130" name="Line 5"/>
          <p:cNvSpPr/>
          <p:nvPr/>
        </p:nvSpPr>
        <p:spPr>
          <a:xfrm>
            <a:off x="6172200" y="3048120"/>
            <a:ext cx="3808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Line 6"/>
          <p:cNvSpPr/>
          <p:nvPr/>
        </p:nvSpPr>
        <p:spPr>
          <a:xfrm>
            <a:off x="6477120" y="3048120"/>
            <a:ext cx="0" cy="4572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6477120" y="3429000"/>
            <a:ext cx="3045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6781680" y="3429000"/>
            <a:ext cx="0" cy="4572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6781680" y="3886200"/>
            <a:ext cx="3049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7086600" y="3886200"/>
            <a:ext cx="0" cy="38088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Line 11"/>
          <p:cNvSpPr/>
          <p:nvPr/>
        </p:nvSpPr>
        <p:spPr>
          <a:xfrm>
            <a:off x="7086600" y="4267080"/>
            <a:ext cx="3049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Line 13"/>
          <p:cNvSpPr/>
          <p:nvPr/>
        </p:nvSpPr>
        <p:spPr>
          <a:xfrm>
            <a:off x="7391520" y="4267080"/>
            <a:ext cx="0" cy="4572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0" y="297180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Metals are to the left of the    stair- step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Line 16"/>
          <p:cNvSpPr/>
          <p:nvPr/>
        </p:nvSpPr>
        <p:spPr>
          <a:xfrm>
            <a:off x="1600200" y="1523880"/>
            <a:ext cx="1066680" cy="60984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228600" y="990720"/>
            <a:ext cx="1981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ydroge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ly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onmetal on the metal sid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6324480" y="12193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onmetals are on the right of the stair-step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Text Box 19"/>
          <p:cNvSpPr/>
          <p:nvPr/>
        </p:nvSpPr>
        <p:spPr>
          <a:xfrm>
            <a:off x="0" y="4648320"/>
            <a:ext cx="2057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mi-metals,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metalloids,”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ouch the    stair-step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Comic Sans MS"/>
              </a:rPr>
              <a:t>The Groups of the Periodic Tabl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roup 1:  The Alkali Met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st reactive metals on the 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active in water and air thus stored in o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arely found free in n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rge of +1:  1 valence electron (1 electron in the outer she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Comic Sans MS"/>
              </a:rPr>
              <a:t>The Groups of the Periodic Tabl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roup 2:  The Alkaline Earth Met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Still quite rea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React with water to form bases and hydrogen g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Have a silvery 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Good conductors of heat and electric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Charge of +2:  2 valence electrons (2 electrons in outer she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11:42:37Z</dcterms:created>
  <dc:creator>jcameron</dc:creator>
  <dc:description/>
  <dc:language>en-US</dc:language>
  <cp:lastModifiedBy>Administrator</cp:lastModifiedBy>
  <dcterms:modified xsi:type="dcterms:W3CDTF">2014-03-25T18:15:05Z</dcterms:modified>
  <cp:revision>47</cp:revision>
  <dc:subject/>
  <dc:title>The Periodic Table</dc:title>
</cp:coreProperties>
</file>